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94.xml.rels" ContentType="application/vnd.openxmlformats-package.relationships+xml"/>
  <Override PartName="/ppt/notesSlides/notesSlide82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453-464B-41B8-A586-5409361D4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F81-A880-4932-94D4-4578CAF8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9B4-69E2-4B6D-A734-403A5BDD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21EC-8C05-460F-99D6-C076D82C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B363-75C3-4CFC-9482-03FE6DB7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3DB-BD9B-4894-9D11-76F1789B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FF2-9579-4EC5-A396-7D02FBC6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C556-D385-419C-B780-97A5D0A68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4D8A-0958-40AC-BCAD-B76BFCD4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25E-F99E-42A3-9022-A6A4400B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E95-F3CD-4C7E-9D64-38AEBA8B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CA55-AF7F-4FE8-AA52-461CE022C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30E2-292A-4645-B78F-81CFEC0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ACAE-862A-47E0-BBB8-9D30766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993B-ACAD-42C9-81A0-B87944C84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C276-CA53-42B5-8DFE-54ECF61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FF4F-7BE2-4259-9BB6-8BFA97D3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116D-DBE7-413B-BBD6-CFB9C790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FB14-0AD6-4C6B-A776-271F13FD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47E0-F488-4788-852D-EBE8D28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0B41-C869-487E-9845-BB97EE7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4790-B491-4EA4-BCBA-8A0E841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E73B-AADB-4454-ADB2-8DAC54E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SIGAda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5800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TASH-</a:t>
            </a:r>
            <a:fld id="{744ABD9D-FB20-4E46-BC80-2E9C05DF9C5C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14400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(Tcl Ada SHell)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n Ada binding to Tcl/Tk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Ada 200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ember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y West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adatc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at is TASH?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da binding to Tc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H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cripting language with an Ada-lik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B6DD-B9DC-4667-B5CB-ACD2D0EFC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y Use TASH?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Tcl by adding new commands coded in Ada instead of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cl capabilities in an Ad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tool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88F4-DE37-4D45-BD7F-C398B3413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ample TASH Program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I in 1..Ada.Command_Line.Argument_Count 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cla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File_Name : constant String := Ada.Command_Line.Argument (I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Extension : constant String := Tash.File.Extension (File_Name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f Extension = ".tcl"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a.Text_IO.Put_Line (File_Name &amp; " tc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Tash.Regexp.Match (Extension, ".ad[sb]"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a.Text_IO.Put_Line (File_Name &amp; " ad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Tash.Regexp.Match (Extension, ".[ch]"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a.Text_IO.Put_Line (File_Name &amp; " 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a.Text_IO.Put_Line (File_Name &amp; " unknow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43DB-CC55-4CF9-9619-F2A518DE25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Ada Bind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ner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ck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DC5B-AE7D-4A84-929A-4DCDCE1C1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inner Bind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 Tcl APIs (tcl.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programs and data types correspond one-to-one to C functions and Tcl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cl return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C data types (Interfaces.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and Tcl.Tk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04B2-1C63-488B-B2F5-E204818FC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in Bind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 Tcl APIs (tcl.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: Subprograms and data types correspond one-to-one to C functions and Tcl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exceptions in place of return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da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.Ada and Tcl.Tk.Ada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FC5E-898F-494A-B285-BEC7BBB6B8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781680" y="4114800"/>
            <a:ext cx="1904760" cy="1915560"/>
            <a:chOff x="6781680" y="4114800"/>
            <a:chExt cx="1904760" cy="1915560"/>
          </a:xfrm>
        </p:grpSpPr>
        <p:sp>
          <p:nvSpPr>
            <p:cNvPr id="123" name=""/>
            <p:cNvSpPr/>
            <p:nvPr/>
          </p:nvSpPr>
          <p:spPr>
            <a:xfrm>
              <a:off x="6781680" y="4282920"/>
              <a:ext cx="190476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st say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4114800"/>
              <a:ext cx="1523880" cy="1523880"/>
            </a:xfrm>
            <a:prstGeom prst="ellipse">
              <a:avLst/>
            </a:prstGeom>
            <a:noFill/>
            <a:ln w="152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238880" y="4343040"/>
              <a:ext cx="1066680" cy="106668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to Tcl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one-to-one correspondance with C functions or Tcl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agged controll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and protects access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initializes 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h package and its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ick Bind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86CD-CDDE-4B65-9124-DEEAFE36C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utorial Outlin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cl/Tk and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programm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4340-228A-4B63-BD41-742B40E8BF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cripting vs Ada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goo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pplications (&lt; 1 KSL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rings are chief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several programs into on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front-end to command lin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B048-EA1E-4E03-BFA5-8A8BBD701E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cripting vs Ada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 much better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ring and complex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AF56-7F96-47F5-B4AE-00EFF9A21F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utorial Outlin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cl/Tk and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programm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FB87-FF80-4024-8CB9-50CD75FBF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2FBC-7900-4294-9850-19C90B89E1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cl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or more elements in an order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may be a scalar type, a string or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list package f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poin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of different types may be stored in on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List Objec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3041-A4BA-4977-BCD0-85A5461568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073600" y="2075400"/>
            <a:ext cx="1841400" cy="464040"/>
            <a:chOff x="2073600" y="2075400"/>
            <a:chExt cx="1841400" cy="464040"/>
          </a:xfrm>
        </p:grpSpPr>
        <p:sp>
          <p:nvSpPr>
            <p:cNvPr id="139" name=""/>
            <p:cNvSpPr/>
            <p:nvPr/>
          </p:nvSpPr>
          <p:spPr>
            <a:xfrm>
              <a:off x="3225240" y="20754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73600" y="207972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2040" y="230976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30640" y="2070360"/>
            <a:ext cx="90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2886120"/>
            <a:ext cx="84582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l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L : Tash.Lists.Tash_Lis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ommon List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05160"/>
            <a:ext cx="87631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Tash.Lists.To_Tash_List ("quick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800600"/>
            <a:ext cx="8458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Append (L, "brow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86320"/>
            <a:ext cx="8763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Insert (L, 1, "Th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3680" y="2070360"/>
            <a:ext cx="102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24160" y="1887480"/>
            <a:ext cx="2654640" cy="825480"/>
            <a:chOff x="3224160" y="1887480"/>
            <a:chExt cx="2654640" cy="825480"/>
          </a:xfrm>
        </p:grpSpPr>
        <p:sp>
          <p:nvSpPr>
            <p:cNvPr id="150" name=""/>
            <p:cNvSpPr/>
            <p:nvPr/>
          </p:nvSpPr>
          <p:spPr>
            <a:xfrm>
              <a:off x="3224160" y="1887480"/>
              <a:ext cx="6922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9040" y="206892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52080" y="206892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224160" y="2070360"/>
            <a:ext cx="7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C961-C2B2-461B-8D86-BCC9757790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9600" y="3047760"/>
            <a:ext cx="849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Head (L) = "Th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Tail (L) = "brow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Get_Element (L, 2) = "quick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Length (L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Is_Empty (L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To_String (L) = "The quick brow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ommon List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73600" y="1984680"/>
            <a:ext cx="3805200" cy="459720"/>
            <a:chOff x="2073600" y="1984680"/>
            <a:chExt cx="3805200" cy="459720"/>
          </a:xfrm>
        </p:grpSpPr>
        <p:sp>
          <p:nvSpPr>
            <p:cNvPr id="157" name=""/>
            <p:cNvSpPr/>
            <p:nvPr/>
          </p:nvSpPr>
          <p:spPr>
            <a:xfrm>
              <a:off x="2073600" y="198468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29040" y="198468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5960" y="198468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52080" y="198468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7080" y="22194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3B25-4C94-452B-BE75-F14C430FBA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440" y="3257640"/>
            <a:ext cx="7924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Append_Elements (L, 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Append Elements vs Lis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92360" y="1984680"/>
            <a:ext cx="2653200" cy="459720"/>
            <a:chOff x="1692360" y="1984680"/>
            <a:chExt cx="2653200" cy="459720"/>
          </a:xfrm>
        </p:grpSpPr>
        <p:sp>
          <p:nvSpPr>
            <p:cNvPr id="165" name=""/>
            <p:cNvSpPr/>
            <p:nvPr/>
          </p:nvSpPr>
          <p:spPr>
            <a:xfrm>
              <a:off x="2395800" y="198468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92360" y="198468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8840" y="198468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0000" y="1984680"/>
            <a:ext cx="1155600" cy="459720"/>
            <a:chOff x="540000" y="1984680"/>
            <a:chExt cx="1155600" cy="459720"/>
          </a:xfrm>
        </p:grpSpPr>
        <p:sp>
          <p:nvSpPr>
            <p:cNvPr id="169" name=""/>
            <p:cNvSpPr/>
            <p:nvPr/>
          </p:nvSpPr>
          <p:spPr>
            <a:xfrm>
              <a:off x="540000" y="198468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3480" y="2219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49240" y="2565720"/>
            <a:ext cx="2353320" cy="459720"/>
            <a:chOff x="1749240" y="2565720"/>
            <a:chExt cx="2353320" cy="459720"/>
          </a:xfrm>
        </p:grpSpPr>
        <p:sp>
          <p:nvSpPr>
            <p:cNvPr id="172" name=""/>
            <p:cNvSpPr/>
            <p:nvPr/>
          </p:nvSpPr>
          <p:spPr>
            <a:xfrm>
              <a:off x="2341800" y="256572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49240" y="256572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45840" y="256572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9280" y="2565720"/>
            <a:ext cx="1191240" cy="459720"/>
            <a:chOff x="539280" y="2565720"/>
            <a:chExt cx="1191240" cy="459720"/>
          </a:xfrm>
        </p:grpSpPr>
        <p:sp>
          <p:nvSpPr>
            <p:cNvPr id="176" name=""/>
            <p:cNvSpPr/>
            <p:nvPr/>
          </p:nvSpPr>
          <p:spPr>
            <a:xfrm>
              <a:off x="539280" y="2565720"/>
              <a:ext cx="41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68400" y="28004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0000" y="3994560"/>
            <a:ext cx="6181920" cy="459720"/>
            <a:chOff x="540000" y="3994560"/>
            <a:chExt cx="6181920" cy="459720"/>
          </a:xfrm>
        </p:grpSpPr>
        <p:sp>
          <p:nvSpPr>
            <p:cNvPr id="179" name=""/>
            <p:cNvSpPr/>
            <p:nvPr/>
          </p:nvSpPr>
          <p:spPr>
            <a:xfrm>
              <a:off x="540000" y="399456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3480" y="4229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702080" y="3994560"/>
              <a:ext cx="2653200" cy="459720"/>
              <a:chOff x="1702080" y="3994560"/>
              <a:chExt cx="2653200" cy="45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2405520" y="3994560"/>
                <a:ext cx="90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02080" y="3994560"/>
                <a:ext cx="688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28560" y="3994560"/>
                <a:ext cx="102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368600" y="3994560"/>
              <a:ext cx="2353320" cy="459720"/>
              <a:chOff x="4368600" y="3994560"/>
              <a:chExt cx="2353320" cy="459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961160" y="3994560"/>
                <a:ext cx="99468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68600" y="3994560"/>
                <a:ext cx="587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65200" y="3994560"/>
                <a:ext cx="75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685800" y="4762440"/>
            <a:ext cx="7581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Append_List (L,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02200" y="5423040"/>
            <a:ext cx="7759800" cy="459720"/>
            <a:chOff x="502200" y="5423040"/>
            <a:chExt cx="7759800" cy="459720"/>
          </a:xfrm>
        </p:grpSpPr>
        <p:grpSp>
          <p:nvGrpSpPr>
            <p:cNvPr id="191" name=""/>
            <p:cNvGrpSpPr/>
            <p:nvPr/>
          </p:nvGrpSpPr>
          <p:grpSpPr>
            <a:xfrm>
              <a:off x="502200" y="5423040"/>
              <a:ext cx="3786480" cy="459720"/>
              <a:chOff x="502200" y="5423040"/>
              <a:chExt cx="3786480" cy="459720"/>
            </a:xfrm>
          </p:grpSpPr>
          <p:sp>
            <p:nvSpPr>
              <p:cNvPr id="192" name=""/>
              <p:cNvSpPr/>
              <p:nvPr/>
            </p:nvSpPr>
            <p:spPr>
              <a:xfrm>
                <a:off x="502200" y="542304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38920" y="5423040"/>
                <a:ext cx="90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45200" y="5423040"/>
                <a:ext cx="688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61960" y="5423040"/>
                <a:ext cx="102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600" y="56577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491520" y="542304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89240" y="542304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05280" y="542304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05600" y="5423040"/>
              <a:ext cx="40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43560" y="5657760"/>
              <a:ext cx="133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A659-E17E-4D98-BB0B-1AF339DC0E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440" y="3257640"/>
            <a:ext cx="7924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 := L &amp;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oncatenate List &amp; Str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92360" y="1984680"/>
            <a:ext cx="2653200" cy="459720"/>
            <a:chOff x="1692360" y="1984680"/>
            <a:chExt cx="2653200" cy="459720"/>
          </a:xfrm>
        </p:grpSpPr>
        <p:sp>
          <p:nvSpPr>
            <p:cNvPr id="205" name=""/>
            <p:cNvSpPr/>
            <p:nvPr/>
          </p:nvSpPr>
          <p:spPr>
            <a:xfrm>
              <a:off x="2395800" y="198468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92360" y="198468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18840" y="198468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0000" y="1984680"/>
            <a:ext cx="1155600" cy="459720"/>
            <a:chOff x="540000" y="1984680"/>
            <a:chExt cx="1155600" cy="459720"/>
          </a:xfrm>
        </p:grpSpPr>
        <p:sp>
          <p:nvSpPr>
            <p:cNvPr id="209" name=""/>
            <p:cNvSpPr/>
            <p:nvPr/>
          </p:nvSpPr>
          <p:spPr>
            <a:xfrm>
              <a:off x="540000" y="198468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33480" y="2219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49240" y="2565720"/>
            <a:ext cx="2353320" cy="459720"/>
            <a:chOff x="1749240" y="2565720"/>
            <a:chExt cx="2353320" cy="459720"/>
          </a:xfrm>
        </p:grpSpPr>
        <p:sp>
          <p:nvSpPr>
            <p:cNvPr id="212" name=""/>
            <p:cNvSpPr/>
            <p:nvPr/>
          </p:nvSpPr>
          <p:spPr>
            <a:xfrm>
              <a:off x="2341800" y="256572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49240" y="256572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5840" y="256572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280" y="2565720"/>
            <a:ext cx="1191240" cy="459720"/>
            <a:chOff x="539280" y="2565720"/>
            <a:chExt cx="1191240" cy="459720"/>
          </a:xfrm>
        </p:grpSpPr>
        <p:sp>
          <p:nvSpPr>
            <p:cNvPr id="216" name=""/>
            <p:cNvSpPr/>
            <p:nvPr/>
          </p:nvSpPr>
          <p:spPr>
            <a:xfrm>
              <a:off x="539280" y="2565720"/>
              <a:ext cx="41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28004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02200" y="5423040"/>
            <a:ext cx="8168400" cy="459720"/>
            <a:chOff x="502200" y="5423040"/>
            <a:chExt cx="8168400" cy="459720"/>
          </a:xfrm>
        </p:grpSpPr>
        <p:grpSp>
          <p:nvGrpSpPr>
            <p:cNvPr id="219" name=""/>
            <p:cNvGrpSpPr/>
            <p:nvPr/>
          </p:nvGrpSpPr>
          <p:grpSpPr>
            <a:xfrm>
              <a:off x="502200" y="5423040"/>
              <a:ext cx="3786480" cy="459720"/>
              <a:chOff x="502200" y="5423040"/>
              <a:chExt cx="3786480" cy="459720"/>
            </a:xfrm>
          </p:grpSpPr>
          <p:sp>
            <p:nvSpPr>
              <p:cNvPr id="220" name=""/>
              <p:cNvSpPr/>
              <p:nvPr/>
            </p:nvSpPr>
            <p:spPr>
              <a:xfrm>
                <a:off x="502200" y="542304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38920" y="5423040"/>
                <a:ext cx="90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45200" y="5423040"/>
                <a:ext cx="688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61960" y="5423040"/>
                <a:ext cx="102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76600" y="56577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311360" y="5423040"/>
              <a:ext cx="2372400" cy="459720"/>
              <a:chOff x="4311360" y="5423040"/>
              <a:chExt cx="2372400" cy="459720"/>
            </a:xfrm>
          </p:grpSpPr>
          <p:sp>
            <p:nvSpPr>
              <p:cNvPr id="226" name=""/>
              <p:cNvSpPr/>
              <p:nvPr/>
            </p:nvSpPr>
            <p:spPr>
              <a:xfrm>
                <a:off x="4913640" y="5423040"/>
                <a:ext cx="99468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11360" y="5423040"/>
                <a:ext cx="587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27040" y="5423040"/>
                <a:ext cx="75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96840" y="5423040"/>
              <a:ext cx="70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97440" y="542304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15760" y="5423040"/>
              <a:ext cx="654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65200" y="3994560"/>
            <a:ext cx="6156720" cy="459720"/>
            <a:chOff x="565200" y="3994560"/>
            <a:chExt cx="6156720" cy="459720"/>
          </a:xfrm>
        </p:grpSpPr>
        <p:grpSp>
          <p:nvGrpSpPr>
            <p:cNvPr id="233" name=""/>
            <p:cNvGrpSpPr/>
            <p:nvPr/>
          </p:nvGrpSpPr>
          <p:grpSpPr>
            <a:xfrm>
              <a:off x="565200" y="3994560"/>
              <a:ext cx="1111320" cy="459720"/>
              <a:chOff x="565200" y="3994560"/>
              <a:chExt cx="1111320" cy="459720"/>
            </a:xfrm>
          </p:grpSpPr>
          <p:sp>
            <p:nvSpPr>
              <p:cNvPr id="234" name=""/>
              <p:cNvSpPr/>
              <p:nvPr/>
            </p:nvSpPr>
            <p:spPr>
              <a:xfrm>
                <a:off x="565200" y="3994560"/>
                <a:ext cx="3330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14400" y="4229280"/>
                <a:ext cx="76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702080" y="3994560"/>
              <a:ext cx="2653200" cy="459720"/>
              <a:chOff x="1702080" y="3994560"/>
              <a:chExt cx="2653200" cy="45972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5520" y="3994560"/>
                <a:ext cx="90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02080" y="3994560"/>
                <a:ext cx="688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28560" y="3994560"/>
                <a:ext cx="102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368600" y="3994560"/>
              <a:ext cx="2353320" cy="459720"/>
              <a:chOff x="4368600" y="3994560"/>
              <a:chExt cx="2353320" cy="459720"/>
            </a:xfrm>
          </p:grpSpPr>
          <p:sp>
            <p:nvSpPr>
              <p:cNvPr id="241" name=""/>
              <p:cNvSpPr/>
              <p:nvPr/>
            </p:nvSpPr>
            <p:spPr>
              <a:xfrm>
                <a:off x="4961160" y="3994560"/>
                <a:ext cx="99468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68600" y="3994560"/>
                <a:ext cx="587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65200" y="3994560"/>
                <a:ext cx="75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685800" y="4762440"/>
            <a:ext cx="7581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 := J &amp; "the" &amp; "lazy" &amp; "dog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EB81-8A8E-46E8-9912-A560EC3667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440" y="2048040"/>
            <a:ext cx="7924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Delete_Element (L,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elete List Element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39960" y="3552840"/>
            <a:ext cx="6181920" cy="464400"/>
            <a:chOff x="939960" y="3552840"/>
            <a:chExt cx="6181920" cy="464400"/>
          </a:xfrm>
        </p:grpSpPr>
        <p:sp>
          <p:nvSpPr>
            <p:cNvPr id="248" name=""/>
            <p:cNvSpPr/>
            <p:nvPr/>
          </p:nvSpPr>
          <p:spPr>
            <a:xfrm>
              <a:off x="3726720" y="355752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39960" y="355284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33440" y="378756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05120" y="355284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2040" y="355284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61120" y="355752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8560" y="355752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65160" y="355752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941760" y="3552840"/>
            <a:ext cx="6181920" cy="464400"/>
            <a:chOff x="941760" y="3552840"/>
            <a:chExt cx="6181920" cy="464400"/>
          </a:xfrm>
        </p:grpSpPr>
        <p:sp>
          <p:nvSpPr>
            <p:cNvPr id="257" name=""/>
            <p:cNvSpPr/>
            <p:nvPr/>
          </p:nvSpPr>
          <p:spPr>
            <a:xfrm>
              <a:off x="3728160" y="355752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1760" y="355284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5240" y="378756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06920" y="355284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3480" y="3552840"/>
              <a:ext cx="688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2920" y="355752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70360" y="355752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66960" y="355752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728880" y="3374640"/>
            <a:ext cx="3424680" cy="825480"/>
            <a:chOff x="3728880" y="3374640"/>
            <a:chExt cx="3424680" cy="825480"/>
          </a:xfrm>
        </p:grpSpPr>
        <p:sp>
          <p:nvSpPr>
            <p:cNvPr id="266" name=""/>
            <p:cNvSpPr/>
            <p:nvPr/>
          </p:nvSpPr>
          <p:spPr>
            <a:xfrm>
              <a:off x="4321080" y="355752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8880" y="355752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3360" y="3374640"/>
              <a:ext cx="106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25120" y="355752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5800" y="2724120"/>
            <a:ext cx="7924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Delete_Slice (L, 2,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06200" y="3375000"/>
            <a:ext cx="3600720" cy="825480"/>
            <a:chOff x="2806200" y="3375000"/>
            <a:chExt cx="3600720" cy="825480"/>
          </a:xfrm>
        </p:grpSpPr>
        <p:sp>
          <p:nvSpPr>
            <p:cNvPr id="272" name=""/>
            <p:cNvSpPr/>
            <p:nvPr/>
          </p:nvSpPr>
          <p:spPr>
            <a:xfrm>
              <a:off x="3583440" y="3375000"/>
              <a:ext cx="28234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ver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06200" y="355788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2E04-9C21-4917-85FC-6B6C10F45B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440" y="2048040"/>
            <a:ext cx="82184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Replace_Element (L, 2, "slow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place List Element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724120"/>
            <a:ext cx="8218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Replace_Slice (L, 5, 6, "hop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1400" y="3994560"/>
            <a:ext cx="6181920" cy="459720"/>
            <a:chOff x="1211400" y="3994560"/>
            <a:chExt cx="6181920" cy="459720"/>
          </a:xfrm>
        </p:grpSpPr>
        <p:sp>
          <p:nvSpPr>
            <p:cNvPr id="278" name=""/>
            <p:cNvSpPr/>
            <p:nvPr/>
          </p:nvSpPr>
          <p:spPr>
            <a:xfrm>
              <a:off x="1211400" y="399456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4229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76560" y="399456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73480" y="399456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9600" y="399456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2560" y="399456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40000" y="399456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36600" y="399456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071880" y="3994200"/>
            <a:ext cx="92052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630040" y="3997440"/>
            <a:ext cx="1832040" cy="459720"/>
            <a:chOff x="5630040" y="3997440"/>
            <a:chExt cx="1832040" cy="459720"/>
          </a:xfrm>
        </p:grpSpPr>
        <p:sp>
          <p:nvSpPr>
            <p:cNvPr id="288" name=""/>
            <p:cNvSpPr/>
            <p:nvPr/>
          </p:nvSpPr>
          <p:spPr>
            <a:xfrm>
              <a:off x="6391440" y="3997440"/>
              <a:ext cx="1070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ver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0040" y="399744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7673-3FF9-493E-A521-AB247B88D5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23800" y="2038320"/>
            <a:ext cx="70196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Pop (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ush and Pop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24160" y="2647800"/>
            <a:ext cx="67165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.Push (L, "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73520" y="3994560"/>
            <a:ext cx="6207120" cy="459720"/>
            <a:chOff x="1073520" y="3994560"/>
            <a:chExt cx="6207120" cy="459720"/>
          </a:xfrm>
        </p:grpSpPr>
        <p:sp>
          <p:nvSpPr>
            <p:cNvPr id="294" name=""/>
            <p:cNvSpPr/>
            <p:nvPr/>
          </p:nvSpPr>
          <p:spPr>
            <a:xfrm>
              <a:off x="1073520" y="399456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422928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35240" y="399456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1720" y="399456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7280" y="399456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02120" y="399456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23920" y="399456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38680" y="399456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230560" y="3994560"/>
            <a:ext cx="68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221200" y="3990960"/>
            <a:ext cx="5085000" cy="462960"/>
            <a:chOff x="2221200" y="3990960"/>
            <a:chExt cx="5085000" cy="462960"/>
          </a:xfrm>
        </p:grpSpPr>
        <p:sp>
          <p:nvSpPr>
            <p:cNvPr id="304" name=""/>
            <p:cNvSpPr/>
            <p:nvPr/>
          </p:nvSpPr>
          <p:spPr>
            <a:xfrm>
              <a:off x="6549480" y="399420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21200" y="399096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44240" y="399096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7200" y="399096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84640" y="399096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81240" y="399096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073520" y="3994560"/>
            <a:ext cx="6207120" cy="459720"/>
            <a:chOff x="1073520" y="3994560"/>
            <a:chExt cx="6207120" cy="459720"/>
          </a:xfrm>
        </p:grpSpPr>
        <p:sp>
          <p:nvSpPr>
            <p:cNvPr id="311" name=""/>
            <p:cNvSpPr/>
            <p:nvPr/>
          </p:nvSpPr>
          <p:spPr>
            <a:xfrm>
              <a:off x="1073520" y="399456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7920" y="422928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28040" y="3994560"/>
              <a:ext cx="704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1720" y="399456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07280" y="399456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02120" y="399456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920" y="399456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8680" y="399456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A79C-612C-4E78-8169-7A1ED90E42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040" y="1924200"/>
            <a:ext cx="68007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Sort (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ort A Lis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130760" y="3670560"/>
            <a:ext cx="6181920" cy="459720"/>
            <a:chOff x="1130760" y="3670560"/>
            <a:chExt cx="6181920" cy="459720"/>
          </a:xfrm>
        </p:grpSpPr>
        <p:sp>
          <p:nvSpPr>
            <p:cNvPr id="322" name=""/>
            <p:cNvSpPr/>
            <p:nvPr/>
          </p:nvSpPr>
          <p:spPr>
            <a:xfrm>
              <a:off x="1130760" y="367056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04800" y="3905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95920" y="3670560"/>
              <a:ext cx="90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92480" y="3670560"/>
              <a:ext cx="688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960" y="3670560"/>
              <a:ext cx="102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1560" y="3670560"/>
              <a:ext cx="994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9000" y="367056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5960" y="3670560"/>
              <a:ext cx="756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14400" y="2724120"/>
            <a:ext cx="6800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Sort (L, Order =&gt; Decreasi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30760" y="3676680"/>
            <a:ext cx="6193800" cy="459720"/>
            <a:chOff x="1130760" y="3676680"/>
            <a:chExt cx="6193800" cy="459720"/>
          </a:xfrm>
        </p:grpSpPr>
        <p:sp>
          <p:nvSpPr>
            <p:cNvPr id="332" name=""/>
            <p:cNvSpPr/>
            <p:nvPr/>
          </p:nvSpPr>
          <p:spPr>
            <a:xfrm>
              <a:off x="1130760" y="367668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04800" y="3911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15200" y="367668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2480" y="3676680"/>
              <a:ext cx="688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96640" y="367668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37160" y="367668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6680" y="367668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44440" y="367668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30760" y="3670200"/>
            <a:ext cx="6193440" cy="459720"/>
            <a:chOff x="1130760" y="3670200"/>
            <a:chExt cx="6193440" cy="459720"/>
          </a:xfrm>
        </p:grpSpPr>
        <p:sp>
          <p:nvSpPr>
            <p:cNvPr id="341" name=""/>
            <p:cNvSpPr/>
            <p:nvPr/>
          </p:nvSpPr>
          <p:spPr>
            <a:xfrm>
              <a:off x="1130760" y="367020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4800" y="39049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92480" y="3670200"/>
              <a:ext cx="90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35880" y="3670200"/>
              <a:ext cx="688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95120" y="3670200"/>
              <a:ext cx="102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86280" y="3670200"/>
              <a:ext cx="994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93920" y="3670200"/>
              <a:ext cx="587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17320" y="3670200"/>
              <a:ext cx="75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69A7-4610-46DA-99B3-32E22C6CD1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at is Tcl/Tk?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m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powerful, and extensible script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o Bourne shell, C shell, Perl, 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le GUI toolkit extension of 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23000" y="1743120"/>
            <a:ext cx="214812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F8B0-3DDF-4FFC-86CF-7A6A9DAA0C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plit a String to Create a Lis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2361960"/>
            <a:ext cx="85723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:= Tash.Lists.Split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      =&gt; "http://www.adatcl.com/docs/intro.htm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lit_At =&gt; "/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11360" y="3994560"/>
            <a:ext cx="1136520" cy="459720"/>
            <a:chOff x="711360" y="3994560"/>
            <a:chExt cx="1136520" cy="459720"/>
          </a:xfrm>
        </p:grpSpPr>
        <p:sp>
          <p:nvSpPr>
            <p:cNvPr id="352" name=""/>
            <p:cNvSpPr/>
            <p:nvPr/>
          </p:nvSpPr>
          <p:spPr>
            <a:xfrm>
              <a:off x="711360" y="399456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85760" y="4229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648160" y="3994560"/>
            <a:ext cx="561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05040" y="3994560"/>
            <a:ext cx="82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23080" y="3994560"/>
            <a:ext cx="233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adatc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36360" y="3994560"/>
            <a:ext cx="142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67400" y="3994560"/>
            <a:ext cx="75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1719-BF69-4D4B-A125-2C3193B89D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a List from a Str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76120"/>
            <a:ext cx="7486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Tash.Lists.To_Tash_List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{Terry Westley} twestley@acm.org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130400" y="3784680"/>
            <a:ext cx="1136520" cy="459720"/>
            <a:chOff x="1130400" y="3784680"/>
            <a:chExt cx="1136520" cy="459720"/>
          </a:xfrm>
        </p:grpSpPr>
        <p:sp>
          <p:nvSpPr>
            <p:cNvPr id="362" name=""/>
            <p:cNvSpPr/>
            <p:nvPr/>
          </p:nvSpPr>
          <p:spPr>
            <a:xfrm>
              <a:off x="1130400" y="378468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04800" y="4019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327560" y="3784680"/>
            <a:ext cx="257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stley@acm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3784680"/>
            <a:ext cx="205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y West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B9FE-4038-4B57-8583-C948AC93E5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Join the Elements of a Lis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23920" y="31240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Join (L, ","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30400" y="2241720"/>
            <a:ext cx="5772240" cy="459720"/>
            <a:chOff x="1130400" y="2241720"/>
            <a:chExt cx="5772240" cy="459720"/>
          </a:xfrm>
        </p:grpSpPr>
        <p:grpSp>
          <p:nvGrpSpPr>
            <p:cNvPr id="369" name=""/>
            <p:cNvGrpSpPr/>
            <p:nvPr/>
          </p:nvGrpSpPr>
          <p:grpSpPr>
            <a:xfrm>
              <a:off x="1130400" y="2241720"/>
              <a:ext cx="1136520" cy="459720"/>
              <a:chOff x="1130400" y="2241720"/>
              <a:chExt cx="1136520" cy="459720"/>
            </a:xfrm>
          </p:grpSpPr>
          <p:sp>
            <p:nvSpPr>
              <p:cNvPr id="370" name=""/>
              <p:cNvSpPr/>
              <p:nvPr/>
            </p:nvSpPr>
            <p:spPr>
              <a:xfrm>
                <a:off x="1130400" y="224172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04800" y="2476440"/>
                <a:ext cx="76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4327560" y="2241720"/>
              <a:ext cx="2575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westley@acm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70880" y="2241720"/>
              <a:ext cx="2053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ry West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123920" y="3657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erry Westley,twestley@acm.or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3E31-9096-4516-97E2-79904E2628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nteger and Float List Element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2720" y="3352680"/>
            <a:ext cx="8429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Lists.Replace_Element (L, 7, "on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44960" y="2279880"/>
            <a:ext cx="8168400" cy="459720"/>
            <a:chOff x="444960" y="2279880"/>
            <a:chExt cx="8168400" cy="459720"/>
          </a:xfrm>
        </p:grpSpPr>
        <p:grpSp>
          <p:nvGrpSpPr>
            <p:cNvPr id="378" name=""/>
            <p:cNvGrpSpPr/>
            <p:nvPr/>
          </p:nvGrpSpPr>
          <p:grpSpPr>
            <a:xfrm>
              <a:off x="444960" y="2279880"/>
              <a:ext cx="3786480" cy="459720"/>
              <a:chOff x="444960" y="2279880"/>
              <a:chExt cx="3786480" cy="459720"/>
            </a:xfrm>
          </p:grpSpPr>
          <p:sp>
            <p:nvSpPr>
              <p:cNvPr id="379" name=""/>
              <p:cNvSpPr/>
              <p:nvPr/>
            </p:nvSpPr>
            <p:spPr>
              <a:xfrm>
                <a:off x="444960" y="227988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1680" y="2279880"/>
                <a:ext cx="90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87960" y="2279880"/>
                <a:ext cx="688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04720" y="2279880"/>
                <a:ext cx="102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19360" y="25146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254120" y="2279880"/>
              <a:ext cx="2372400" cy="459720"/>
              <a:chOff x="4254120" y="2279880"/>
              <a:chExt cx="2372400" cy="459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856400" y="2279880"/>
                <a:ext cx="99468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54120" y="2279880"/>
                <a:ext cx="587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9800" y="2279880"/>
                <a:ext cx="756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7239600" y="2279880"/>
              <a:ext cx="70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40200" y="2279880"/>
              <a:ext cx="587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520" y="2279880"/>
              <a:ext cx="654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43080" y="4095720"/>
            <a:ext cx="8429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Integer_Lists.Replace_Element (L, 7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44960" y="2279880"/>
            <a:ext cx="8168400" cy="459720"/>
            <a:chOff x="444960" y="2279880"/>
            <a:chExt cx="8168400" cy="459720"/>
          </a:xfrm>
        </p:grpSpPr>
        <p:grpSp>
          <p:nvGrpSpPr>
            <p:cNvPr id="393" name=""/>
            <p:cNvGrpSpPr/>
            <p:nvPr/>
          </p:nvGrpSpPr>
          <p:grpSpPr>
            <a:xfrm>
              <a:off x="444960" y="2279880"/>
              <a:ext cx="3786480" cy="459720"/>
              <a:chOff x="444960" y="2279880"/>
              <a:chExt cx="3786480" cy="459720"/>
            </a:xfrm>
          </p:grpSpPr>
          <p:sp>
            <p:nvSpPr>
              <p:cNvPr id="394" name=""/>
              <p:cNvSpPr/>
              <p:nvPr/>
            </p:nvSpPr>
            <p:spPr>
              <a:xfrm>
                <a:off x="444960" y="227988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1680" y="2279880"/>
                <a:ext cx="909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87960" y="2279880"/>
                <a:ext cx="6883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04720" y="2279880"/>
                <a:ext cx="102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19360" y="25146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254120" y="2279880"/>
              <a:ext cx="2372400" cy="459720"/>
              <a:chOff x="4254120" y="2279880"/>
              <a:chExt cx="2372400" cy="459720"/>
            </a:xfrm>
          </p:grpSpPr>
          <p:sp>
            <p:nvSpPr>
              <p:cNvPr id="400" name=""/>
              <p:cNvSpPr/>
              <p:nvPr/>
            </p:nvSpPr>
            <p:spPr>
              <a:xfrm>
                <a:off x="4856400" y="2279880"/>
                <a:ext cx="994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254120" y="2279880"/>
                <a:ext cx="587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9800" y="2279880"/>
                <a:ext cx="75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239600" y="2279880"/>
              <a:ext cx="70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15000" y="22798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58520" y="2279880"/>
              <a:ext cx="654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44960" y="2279880"/>
            <a:ext cx="8219160" cy="459720"/>
            <a:chOff x="444960" y="2279880"/>
            <a:chExt cx="8219160" cy="459720"/>
          </a:xfrm>
        </p:grpSpPr>
        <p:grpSp>
          <p:nvGrpSpPr>
            <p:cNvPr id="407" name=""/>
            <p:cNvGrpSpPr/>
            <p:nvPr/>
          </p:nvGrpSpPr>
          <p:grpSpPr>
            <a:xfrm>
              <a:off x="444960" y="2279880"/>
              <a:ext cx="3786480" cy="459720"/>
              <a:chOff x="444960" y="2279880"/>
              <a:chExt cx="3786480" cy="459720"/>
            </a:xfrm>
          </p:grpSpPr>
          <p:sp>
            <p:nvSpPr>
              <p:cNvPr id="408" name=""/>
              <p:cNvSpPr/>
              <p:nvPr/>
            </p:nvSpPr>
            <p:spPr>
              <a:xfrm>
                <a:off x="444960" y="227988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81680" y="2279880"/>
                <a:ext cx="909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87960" y="2279880"/>
                <a:ext cx="6883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204720" y="2279880"/>
                <a:ext cx="102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9360" y="25146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254120" y="2279880"/>
              <a:ext cx="2372400" cy="459720"/>
              <a:chOff x="4254120" y="2279880"/>
              <a:chExt cx="2372400" cy="459720"/>
            </a:xfrm>
          </p:grpSpPr>
          <p:sp>
            <p:nvSpPr>
              <p:cNvPr id="414" name=""/>
              <p:cNvSpPr/>
              <p:nvPr/>
            </p:nvSpPr>
            <p:spPr>
              <a:xfrm>
                <a:off x="4856400" y="2279880"/>
                <a:ext cx="994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54120" y="2279880"/>
                <a:ext cx="587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9800" y="2279880"/>
                <a:ext cx="75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290360" y="2279880"/>
              <a:ext cx="70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40560" y="22798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9280" y="2279880"/>
              <a:ext cx="654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44960" y="2279880"/>
            <a:ext cx="8219160" cy="459720"/>
            <a:chOff x="444960" y="2279880"/>
            <a:chExt cx="8219160" cy="459720"/>
          </a:xfrm>
        </p:grpSpPr>
        <p:grpSp>
          <p:nvGrpSpPr>
            <p:cNvPr id="421" name=""/>
            <p:cNvGrpSpPr/>
            <p:nvPr/>
          </p:nvGrpSpPr>
          <p:grpSpPr>
            <a:xfrm>
              <a:off x="444960" y="2279880"/>
              <a:ext cx="3786480" cy="459720"/>
              <a:chOff x="444960" y="2279880"/>
              <a:chExt cx="3786480" cy="4597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4960" y="227988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81680" y="2279880"/>
                <a:ext cx="909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i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87960" y="2279880"/>
                <a:ext cx="6883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04720" y="2279880"/>
                <a:ext cx="102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9360" y="25146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254120" y="2279880"/>
              <a:ext cx="2372400" cy="459720"/>
              <a:chOff x="4254120" y="2279880"/>
              <a:chExt cx="2372400" cy="459720"/>
            </a:xfrm>
          </p:grpSpPr>
          <p:sp>
            <p:nvSpPr>
              <p:cNvPr id="428" name=""/>
              <p:cNvSpPr/>
              <p:nvPr/>
            </p:nvSpPr>
            <p:spPr>
              <a:xfrm>
                <a:off x="4856400" y="2279880"/>
                <a:ext cx="994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um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254120" y="2279880"/>
                <a:ext cx="587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9800" y="2279880"/>
                <a:ext cx="756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7290360" y="2279880"/>
              <a:ext cx="70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2400" y="2279880"/>
              <a:ext cx="714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09280" y="2279880"/>
              <a:ext cx="654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43080" y="4838760"/>
            <a:ext cx="8429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loat_Lists.Replace_Element (L, 7, 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9B7C-2935-4794-A4BB-D480632E49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F1A7-6FB6-46D2-8AA8-4BADB382DE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gular Expression Query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23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Regexp.Match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ource  =&gt; "Tcl/Tk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attern =&gt; "T[cC]") = Tru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Regexp.Match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ource  =&gt; "Tcl/Tk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attern =&gt; "(Ada|Tk)") = True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mplete details on forming regular expressions, see Tcl documentation p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_syn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EEE 100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3B5A-7FEF-4161-8EF1-C91EF20C34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gular Express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048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racter group, e.g. [a-zA-Z], [cC], [^0-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ingle character: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= sequence of 0 or mor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= sequence of 1 or mor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= 0 or 1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one of several patterns: (Tcl|T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D16F-6CC0-4284-8E3F-54A9E99D19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gular Expression Exampl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 comment l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^ *--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 identifi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[A-Z][A-Za-z0-9_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oating point numb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(+|-)?[0-9]+\.[0-9]+([eE](+|-)?[0-9]+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F0D1-ED01-4885-A0C4-73D4D3001A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gular Expression Exampl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8120" y="1866600"/>
            <a:ext cx="81345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+|-)?   [0-9]+    \.    [0-9]+    ([eE](+|-)?[0-9]+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: 0 or 1 of either + or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: 1 or more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mal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: 1 or more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: 0 or 1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or E followed by an optional sign followed by 1 or more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676D-3D0D-45BE-BABD-B3B8628FD2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Extract a Substr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657216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Tash.Regexp.Match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ource  =&gt; "Tcl/Tk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attern =&gt; "T[kK]$"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530800" y="3851640"/>
            <a:ext cx="1716480" cy="459720"/>
            <a:chOff x="2530800" y="3851640"/>
            <a:chExt cx="1716480" cy="459720"/>
          </a:xfrm>
        </p:grpSpPr>
        <p:sp>
          <p:nvSpPr>
            <p:cNvPr id="448" name=""/>
            <p:cNvSpPr/>
            <p:nvPr/>
          </p:nvSpPr>
          <p:spPr>
            <a:xfrm>
              <a:off x="2530800" y="385164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94680" y="3851640"/>
              <a:ext cx="552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24280" y="408636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1C40-759D-4013-98E1-159718775E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y I Lik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cripting Languag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development of smal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of several small applications into one larger coherent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rocessing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B1BE-1C30-40C8-9931-6A288CEE6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atch and Extract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ultiple Substring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61720" y="2266560"/>
            <a:ext cx="68770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:= Tash.Regexp.Match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ource  =&gt; "Tcl/Tk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attern =&gt; "(Tcl)/(Tk)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473560" y="4280040"/>
            <a:ext cx="3397680" cy="459720"/>
            <a:chOff x="2473560" y="4280040"/>
            <a:chExt cx="3397680" cy="459720"/>
          </a:xfrm>
        </p:grpSpPr>
        <p:sp>
          <p:nvSpPr>
            <p:cNvPr id="454" name=""/>
            <p:cNvSpPr/>
            <p:nvPr/>
          </p:nvSpPr>
          <p:spPr>
            <a:xfrm>
              <a:off x="2473560" y="428004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01600" y="4280040"/>
              <a:ext cx="6044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23760" y="428004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l/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18640" y="4280040"/>
              <a:ext cx="552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67040" y="451476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8D08-9EB6-406C-881D-317BDBBB2B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tring Substitution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94960" y="2552400"/>
            <a:ext cx="69152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Regexp.Substitute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ource   =&gt; "Tcl/Tk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attern  =&gt; "(Tcl/|Tk)*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Sub_Spec =&gt; "Use TASH"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Use TAS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6D10-57C3-41D9-8C8F-2E6433DEC6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Other Regular Expression Featur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case in sourc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strings in the elements of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ng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1F6E-E32E-4018-8409-6F58B0E358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BEF5-2022-4BDC-9C03-D00D501558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c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or more elements each indexed by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value may be a scalar type, a string or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array packages f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values of different types may be stored in on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Associative Array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CC13-F75B-46F0-822D-8C2B2F7F5A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an Array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7640" y="2037960"/>
            <a:ext cx="7981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la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 : Tash.Arrays.Tash_Array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Tash.Arrays.To_Tash_Array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"{New York} Albany Maryland Baltimor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142000" y="4422960"/>
            <a:ext cx="4862520" cy="1059840"/>
            <a:chOff x="2142000" y="4422960"/>
            <a:chExt cx="4862520" cy="1059840"/>
          </a:xfrm>
        </p:grpSpPr>
        <p:sp>
          <p:nvSpPr>
            <p:cNvPr id="470" name=""/>
            <p:cNvSpPr/>
            <p:nvPr/>
          </p:nvSpPr>
          <p:spPr>
            <a:xfrm>
              <a:off x="2142000" y="4489560"/>
              <a:ext cx="400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28920" y="448956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20600" y="442296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2120" y="4724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27480" y="4952880"/>
              <a:ext cx="1520640" cy="46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17720" y="5023080"/>
              <a:ext cx="1486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844880" y="460980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48120" y="519120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149640" y="4172040"/>
            <a:ext cx="1879560" cy="18669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3360" y="4172040"/>
            <a:ext cx="1879560" cy="18669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9E7E-357B-413D-9402-54CDC12C99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Array Indic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217960" y="3965760"/>
            <a:ext cx="4172040" cy="459720"/>
            <a:chOff x="2217960" y="3965760"/>
            <a:chExt cx="4172040" cy="459720"/>
          </a:xfrm>
        </p:grpSpPr>
        <p:sp>
          <p:nvSpPr>
            <p:cNvPr id="482" name=""/>
            <p:cNvSpPr/>
            <p:nvPr/>
          </p:nvSpPr>
          <p:spPr>
            <a:xfrm>
              <a:off x="2217960" y="396576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76440" y="396576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04640" y="3965760"/>
              <a:ext cx="1485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11440" y="42004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695600" y="3305160"/>
            <a:ext cx="586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:= Tash.Arrays.Get_Indices (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218320" y="1984320"/>
            <a:ext cx="4862520" cy="1059840"/>
            <a:chOff x="2218320" y="1984320"/>
            <a:chExt cx="4862520" cy="1059840"/>
          </a:xfrm>
        </p:grpSpPr>
        <p:sp>
          <p:nvSpPr>
            <p:cNvPr id="488" name=""/>
            <p:cNvSpPr/>
            <p:nvPr/>
          </p:nvSpPr>
          <p:spPr>
            <a:xfrm>
              <a:off x="2218320" y="2050920"/>
              <a:ext cx="400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05240" y="205092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96920" y="198432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38440" y="22856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03800" y="2514240"/>
              <a:ext cx="1520640" cy="46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94040" y="2584440"/>
              <a:ext cx="1486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921200" y="21711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24440" y="27525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217960" y="5470920"/>
            <a:ext cx="2648160" cy="459720"/>
            <a:chOff x="2217960" y="5470920"/>
            <a:chExt cx="2648160" cy="459720"/>
          </a:xfrm>
        </p:grpSpPr>
        <p:sp>
          <p:nvSpPr>
            <p:cNvPr id="497" name=""/>
            <p:cNvSpPr/>
            <p:nvPr/>
          </p:nvSpPr>
          <p:spPr>
            <a:xfrm>
              <a:off x="2217960" y="547092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80760" y="5470920"/>
              <a:ext cx="1485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11440" y="57056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695600" y="4809960"/>
            <a:ext cx="6762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:= Tash.Arrays.Get_Indices (A, "Mary*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52EB-F5F6-47DA-B85C-B9C5A73609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lob-Style Pattern Match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38120" y="1771200"/>
            <a:ext cx="83059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ull 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any single character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any sequence of zero or more characters: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 group: [A-Z], [0-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on:  {a,b,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mplete details on forming glob-style patterns, see Tcl documentation p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627A-B3CD-4DD2-9502-CFB8C9BDE6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E vs Glob Patter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s are more powerful, resulting, often, in more complicated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s can match a portion of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-style patterns usually must match the whol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EE3A-42E4-42A9-85A4-5839452B03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Array Indic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5600" y="3371760"/>
            <a:ext cx="6723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Indices (A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"{New York} Maryland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Indices (A, "Mary*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"Maryland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Indices (A, "*[Yy]*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"{New York} Marylan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218320" y="1984320"/>
            <a:ext cx="4862520" cy="1059840"/>
            <a:chOff x="2218320" y="1984320"/>
            <a:chExt cx="4862520" cy="1059840"/>
          </a:xfrm>
        </p:grpSpPr>
        <p:sp>
          <p:nvSpPr>
            <p:cNvPr id="508" name=""/>
            <p:cNvSpPr/>
            <p:nvPr/>
          </p:nvSpPr>
          <p:spPr>
            <a:xfrm>
              <a:off x="2218320" y="2050920"/>
              <a:ext cx="400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05240" y="205092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96920" y="198432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38440" y="22856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03800" y="2514240"/>
              <a:ext cx="1520640" cy="46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94040" y="2584440"/>
              <a:ext cx="1486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921200" y="21711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24440" y="27525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C591-C53C-40AB-B4F7-1DB90761B5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cripting Languages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tring sub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anoth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input to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ts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9BB8-C61D-453E-89BC-ADF8F99BF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et Array Elemen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90600" y="2038320"/>
            <a:ext cx="59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Set_Element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Array =&gt; A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dex  =&gt; "Maryland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  =&gt; "Annapoli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199240" y="3775320"/>
            <a:ext cx="4862520" cy="1059840"/>
            <a:chOff x="2199240" y="3775320"/>
            <a:chExt cx="4862520" cy="1059840"/>
          </a:xfrm>
        </p:grpSpPr>
        <p:sp>
          <p:nvSpPr>
            <p:cNvPr id="519" name=""/>
            <p:cNvSpPr/>
            <p:nvPr/>
          </p:nvSpPr>
          <p:spPr>
            <a:xfrm>
              <a:off x="2199240" y="384192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6160" y="384192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77840" y="377532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19360" y="40766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84720" y="430524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74960" y="4375440"/>
              <a:ext cx="1486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902120" y="39621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5360" y="45435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580720" y="4375440"/>
            <a:ext cx="1501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po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4363-C558-4C6E-99D3-344677AB2B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et Array Elemen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90600" y="2038320"/>
            <a:ext cx="59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Set_Element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Array =&gt; A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dex  =&gt; "California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  =&gt; "Sacrament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199240" y="3775320"/>
            <a:ext cx="4873680" cy="1059840"/>
            <a:chOff x="2199240" y="3775320"/>
            <a:chExt cx="4873680" cy="1059840"/>
          </a:xfrm>
        </p:grpSpPr>
        <p:sp>
          <p:nvSpPr>
            <p:cNvPr id="531" name=""/>
            <p:cNvSpPr/>
            <p:nvPr/>
          </p:nvSpPr>
          <p:spPr>
            <a:xfrm>
              <a:off x="2199240" y="384192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86160" y="384192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77840" y="377532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19360" y="40766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84720" y="430524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71000" y="4375440"/>
              <a:ext cx="1501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apol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902120" y="39621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05360" y="45435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384720" y="4772160"/>
            <a:ext cx="3924720" cy="701280"/>
            <a:chOff x="3384720" y="4772160"/>
            <a:chExt cx="3924720" cy="701280"/>
          </a:xfrm>
        </p:grpSpPr>
        <p:sp>
          <p:nvSpPr>
            <p:cNvPr id="540" name=""/>
            <p:cNvSpPr/>
            <p:nvPr/>
          </p:nvSpPr>
          <p:spPr>
            <a:xfrm>
              <a:off x="3384720" y="477216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lifor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69560" y="5013720"/>
              <a:ext cx="1739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cr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05360" y="5010120"/>
              <a:ext cx="658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DC82-4A3A-4763-B91B-E30FE3782D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et Array Element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196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Set_Elements (A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Oregon Portland Pennsylvania Harrisburg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199240" y="3079800"/>
            <a:ext cx="4873680" cy="1059840"/>
            <a:chOff x="2199240" y="3079800"/>
            <a:chExt cx="4873680" cy="1059840"/>
          </a:xfrm>
        </p:grpSpPr>
        <p:sp>
          <p:nvSpPr>
            <p:cNvPr id="546" name=""/>
            <p:cNvSpPr/>
            <p:nvPr/>
          </p:nvSpPr>
          <p:spPr>
            <a:xfrm>
              <a:off x="2199240" y="314640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6160" y="314640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7840" y="307980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19360" y="33811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84720" y="360972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71000" y="3679920"/>
              <a:ext cx="1501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apol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902120" y="326664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05360" y="384804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84720" y="4076640"/>
            <a:ext cx="3924720" cy="701280"/>
            <a:chOff x="3384720" y="4076640"/>
            <a:chExt cx="3924720" cy="701280"/>
          </a:xfrm>
        </p:grpSpPr>
        <p:sp>
          <p:nvSpPr>
            <p:cNvPr id="555" name=""/>
            <p:cNvSpPr/>
            <p:nvPr/>
          </p:nvSpPr>
          <p:spPr>
            <a:xfrm>
              <a:off x="3384720" y="407664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lifor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69560" y="4318200"/>
              <a:ext cx="1739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cr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05360" y="4314600"/>
              <a:ext cx="658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384720" y="4543560"/>
            <a:ext cx="3514680" cy="834480"/>
            <a:chOff x="3384720" y="4543560"/>
            <a:chExt cx="3514680" cy="834480"/>
          </a:xfrm>
        </p:grpSpPr>
        <p:sp>
          <p:nvSpPr>
            <p:cNvPr id="559" name=""/>
            <p:cNvSpPr/>
            <p:nvPr/>
          </p:nvSpPr>
          <p:spPr>
            <a:xfrm>
              <a:off x="3384720" y="454356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e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66680" y="4918320"/>
              <a:ext cx="1332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rt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05360" y="4781880"/>
              <a:ext cx="65556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384720" y="5010120"/>
            <a:ext cx="3858480" cy="967680"/>
            <a:chOff x="3384720" y="5010120"/>
            <a:chExt cx="3858480" cy="967680"/>
          </a:xfrm>
        </p:grpSpPr>
        <p:sp>
          <p:nvSpPr>
            <p:cNvPr id="563" name=""/>
            <p:cNvSpPr/>
            <p:nvPr/>
          </p:nvSpPr>
          <p:spPr>
            <a:xfrm>
              <a:off x="3384720" y="501012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nnsylvan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0640" y="5518080"/>
              <a:ext cx="1672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arrisbu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05360" y="5248080"/>
              <a:ext cx="655560" cy="43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8174-B96D-4D35-8D1D-6256E4DA26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2180160" y="3041640"/>
            <a:ext cx="5110200" cy="2898000"/>
            <a:chOff x="2180160" y="3041640"/>
            <a:chExt cx="5110200" cy="2898000"/>
          </a:xfrm>
        </p:grpSpPr>
        <p:grpSp>
          <p:nvGrpSpPr>
            <p:cNvPr id="567" name=""/>
            <p:cNvGrpSpPr/>
            <p:nvPr/>
          </p:nvGrpSpPr>
          <p:grpSpPr>
            <a:xfrm>
              <a:off x="2180160" y="3041640"/>
              <a:ext cx="4873680" cy="1059840"/>
              <a:chOff x="2180160" y="3041640"/>
              <a:chExt cx="4873680" cy="1059840"/>
            </a:xfrm>
          </p:grpSpPr>
          <p:sp>
            <p:nvSpPr>
              <p:cNvPr id="568" name=""/>
              <p:cNvSpPr/>
              <p:nvPr/>
            </p:nvSpPr>
            <p:spPr>
              <a:xfrm>
                <a:off x="2180160" y="3108240"/>
                <a:ext cx="4003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67080" y="3108240"/>
                <a:ext cx="15080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w Y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58760" y="3041640"/>
                <a:ext cx="11286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lba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00280" y="3342960"/>
                <a:ext cx="76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365640" y="3571560"/>
                <a:ext cx="1520640" cy="46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ryl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51920" y="3641760"/>
                <a:ext cx="15019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napol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883040" y="3228480"/>
                <a:ext cx="66852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86280" y="3809880"/>
                <a:ext cx="6652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365640" y="4038480"/>
              <a:ext cx="3924720" cy="701280"/>
              <a:chOff x="3365640" y="4038480"/>
              <a:chExt cx="3924720" cy="701280"/>
            </a:xfrm>
          </p:grpSpPr>
          <p:sp>
            <p:nvSpPr>
              <p:cNvPr id="577" name=""/>
              <p:cNvSpPr/>
              <p:nvPr/>
            </p:nvSpPr>
            <p:spPr>
              <a:xfrm>
                <a:off x="3365640" y="4038480"/>
                <a:ext cx="152064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liforn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50480" y="4280040"/>
                <a:ext cx="17398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cramen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86280" y="4276440"/>
                <a:ext cx="6588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365640" y="4505400"/>
              <a:ext cx="3514680" cy="834480"/>
              <a:chOff x="3365640" y="4505400"/>
              <a:chExt cx="3514680" cy="834480"/>
            </a:xfrm>
          </p:grpSpPr>
          <p:sp>
            <p:nvSpPr>
              <p:cNvPr id="581" name=""/>
              <p:cNvSpPr/>
              <p:nvPr/>
            </p:nvSpPr>
            <p:spPr>
              <a:xfrm>
                <a:off x="3365640" y="4505400"/>
                <a:ext cx="1520640" cy="46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eg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47600" y="4880160"/>
                <a:ext cx="13327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ortl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886280" y="4743720"/>
                <a:ext cx="655560" cy="46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365640" y="4971960"/>
              <a:ext cx="3858480" cy="967680"/>
              <a:chOff x="3365640" y="4971960"/>
              <a:chExt cx="3858480" cy="967680"/>
            </a:xfrm>
          </p:grpSpPr>
          <p:sp>
            <p:nvSpPr>
              <p:cNvPr id="585" name=""/>
              <p:cNvSpPr/>
              <p:nvPr/>
            </p:nvSpPr>
            <p:spPr>
              <a:xfrm>
                <a:off x="3365640" y="4971960"/>
                <a:ext cx="152064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nnsylvan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1560" y="5479920"/>
                <a:ext cx="16725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rrisbur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86280" y="5209920"/>
                <a:ext cx="655560" cy="43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elete Elemen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21528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Delete_Element (A, "Pennsylvani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365640" y="4983120"/>
            <a:ext cx="3858480" cy="967680"/>
            <a:chOff x="3365640" y="4983120"/>
            <a:chExt cx="3858480" cy="967680"/>
          </a:xfrm>
        </p:grpSpPr>
        <p:grpSp>
          <p:nvGrpSpPr>
            <p:cNvPr id="591" name=""/>
            <p:cNvGrpSpPr/>
            <p:nvPr/>
          </p:nvGrpSpPr>
          <p:grpSpPr>
            <a:xfrm>
              <a:off x="3365640" y="4983120"/>
              <a:ext cx="3858480" cy="967680"/>
              <a:chOff x="3365640" y="4983120"/>
              <a:chExt cx="3858480" cy="967680"/>
            </a:xfrm>
          </p:grpSpPr>
          <p:sp>
            <p:nvSpPr>
              <p:cNvPr id="592" name=""/>
              <p:cNvSpPr/>
              <p:nvPr/>
            </p:nvSpPr>
            <p:spPr>
              <a:xfrm>
                <a:off x="3365640" y="4983120"/>
                <a:ext cx="1520640" cy="466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ennsylvan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491080"/>
                <a:ext cx="1672560" cy="459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arrisbur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86280" y="5221080"/>
                <a:ext cx="655560" cy="438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886280" y="5221440"/>
              <a:ext cx="652680" cy="426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3EC6-6F6E-4AB0-B36B-04F2FD86A09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Elements Sorted by Indic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09760" y="3733560"/>
            <a:ext cx="699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:= Tash.Arrays.Get_Sorted_Elements (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065680" y="2079720"/>
            <a:ext cx="4862520" cy="1059840"/>
            <a:chOff x="2065680" y="2079720"/>
            <a:chExt cx="4862520" cy="1059840"/>
          </a:xfrm>
        </p:grpSpPr>
        <p:sp>
          <p:nvSpPr>
            <p:cNvPr id="599" name=""/>
            <p:cNvSpPr/>
            <p:nvPr/>
          </p:nvSpPr>
          <p:spPr>
            <a:xfrm>
              <a:off x="2065680" y="214632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52600" y="214632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44280" y="207972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5800" y="23810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51160" y="260964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1400" y="2679840"/>
              <a:ext cx="1486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768560" y="22665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71800" y="28479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121040" y="4575240"/>
            <a:ext cx="6810480" cy="459720"/>
            <a:chOff x="1121040" y="4575240"/>
            <a:chExt cx="6810480" cy="459720"/>
          </a:xfrm>
        </p:grpSpPr>
        <p:sp>
          <p:nvSpPr>
            <p:cNvPr id="608" name=""/>
            <p:cNvSpPr/>
            <p:nvPr/>
          </p:nvSpPr>
          <p:spPr>
            <a:xfrm>
              <a:off x="1121040" y="457524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92840" y="4575240"/>
              <a:ext cx="1485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360" y="4575240"/>
              <a:ext cx="14868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14520" y="4809960"/>
              <a:ext cx="76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79760" y="457524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02920" y="45752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4AF7-B215-4358-9BEA-F0789078C6B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Sorted Indic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676520" y="3447720"/>
            <a:ext cx="60768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:= Tash.Lists.Sort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ash.Arrays.Get_Indices (A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111760" y="2079720"/>
            <a:ext cx="4862520" cy="1059840"/>
            <a:chOff x="2111760" y="2079720"/>
            <a:chExt cx="4862520" cy="1059840"/>
          </a:xfrm>
        </p:grpSpPr>
        <p:sp>
          <p:nvSpPr>
            <p:cNvPr id="617" name=""/>
            <p:cNvSpPr/>
            <p:nvPr/>
          </p:nvSpPr>
          <p:spPr>
            <a:xfrm>
              <a:off x="2111760" y="214632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98680" y="214632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90360" y="207972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31880" y="23810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97240" y="260964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87480" y="2679840"/>
              <a:ext cx="1486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814640" y="226656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17880" y="284796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111400" y="4575240"/>
            <a:ext cx="4179600" cy="459720"/>
            <a:chOff x="2111400" y="4575240"/>
            <a:chExt cx="4179600" cy="459720"/>
          </a:xfrm>
        </p:grpSpPr>
        <p:sp>
          <p:nvSpPr>
            <p:cNvPr id="626" name=""/>
            <p:cNvSpPr/>
            <p:nvPr/>
          </p:nvSpPr>
          <p:spPr>
            <a:xfrm>
              <a:off x="2111400" y="4575240"/>
              <a:ext cx="383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83560" y="4575240"/>
              <a:ext cx="1485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04880" y="480996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82960" y="4575240"/>
              <a:ext cx="1508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642E-9D27-4FCC-B605-447871D744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Array Query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38120" y="3105000"/>
            <a:ext cx="8344080" cy="31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Is_Empty (A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Length (A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Element (A, "Maryland") = "Baltimo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Elements (A, "Mary*") = "Baltimo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Get_Elements (A, "*[Yy]*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"Albany Baltimo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Exists (A, "Colorado"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Arrays.To_String (A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"{New York} Albany Maryland Baltimo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065680" y="1870200"/>
            <a:ext cx="4862520" cy="1059840"/>
            <a:chOff x="2065680" y="1870200"/>
            <a:chExt cx="4862520" cy="1059840"/>
          </a:xfrm>
        </p:grpSpPr>
        <p:sp>
          <p:nvSpPr>
            <p:cNvPr id="633" name=""/>
            <p:cNvSpPr/>
            <p:nvPr/>
          </p:nvSpPr>
          <p:spPr>
            <a:xfrm>
              <a:off x="2065680" y="193680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52600" y="193680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44280" y="187020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85800" y="21715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51160" y="240012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41400" y="2470320"/>
              <a:ext cx="1486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tim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768560" y="205704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71800" y="263844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B314-405F-48A8-AD98-EEB27B144F5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nteger and Float Array Valu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" y="186696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Integer_Arrays.Set_Element (A, "Int", 8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199240" y="3327480"/>
            <a:ext cx="4873680" cy="1059840"/>
            <a:chOff x="2199240" y="3327480"/>
            <a:chExt cx="4873680" cy="1059840"/>
          </a:xfrm>
        </p:grpSpPr>
        <p:sp>
          <p:nvSpPr>
            <p:cNvPr id="644" name=""/>
            <p:cNvSpPr/>
            <p:nvPr/>
          </p:nvSpPr>
          <p:spPr>
            <a:xfrm>
              <a:off x="2199240" y="3394080"/>
              <a:ext cx="400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86160" y="3394080"/>
              <a:ext cx="1508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77840" y="3327480"/>
              <a:ext cx="1128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19360" y="36288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84720" y="3857400"/>
              <a:ext cx="1520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71000" y="3927600"/>
              <a:ext cx="1501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apol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902120" y="3514320"/>
              <a:ext cx="668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05360" y="4095720"/>
              <a:ext cx="66528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384720" y="4324320"/>
            <a:ext cx="3924720" cy="701280"/>
            <a:chOff x="3384720" y="4324320"/>
            <a:chExt cx="3924720" cy="701280"/>
          </a:xfrm>
        </p:grpSpPr>
        <p:sp>
          <p:nvSpPr>
            <p:cNvPr id="653" name=""/>
            <p:cNvSpPr/>
            <p:nvPr/>
          </p:nvSpPr>
          <p:spPr>
            <a:xfrm>
              <a:off x="3384720" y="432432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liforn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9560" y="4565880"/>
              <a:ext cx="1739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cr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05360" y="4562280"/>
              <a:ext cx="658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384720" y="4791240"/>
            <a:ext cx="2976120" cy="834120"/>
            <a:chOff x="3384720" y="4791240"/>
            <a:chExt cx="2976120" cy="834120"/>
          </a:xfrm>
        </p:grpSpPr>
        <p:sp>
          <p:nvSpPr>
            <p:cNvPr id="657" name=""/>
            <p:cNvSpPr/>
            <p:nvPr/>
          </p:nvSpPr>
          <p:spPr>
            <a:xfrm>
              <a:off x="3384720" y="479124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70640" y="5165640"/>
              <a:ext cx="79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05360" y="5029200"/>
              <a:ext cx="655560" cy="46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384720" y="5257800"/>
            <a:ext cx="2884320" cy="968040"/>
            <a:chOff x="3384720" y="5257800"/>
            <a:chExt cx="2884320" cy="968040"/>
          </a:xfrm>
        </p:grpSpPr>
        <p:sp>
          <p:nvSpPr>
            <p:cNvPr id="661" name=""/>
            <p:cNvSpPr/>
            <p:nvPr/>
          </p:nvSpPr>
          <p:spPr>
            <a:xfrm>
              <a:off x="3384720" y="5257800"/>
              <a:ext cx="1520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54800" y="5766120"/>
              <a:ext cx="714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05360" y="5495760"/>
              <a:ext cx="655560" cy="43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5800" y="243828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7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Float_Arrays.Set_Element (A, "Float", 3.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083F-AD6A-4EC1-BA97-D66EC29614B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B8A4-B51E-4662-A57F-CE1CD249D04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and Set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ccess and Modified Tim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2171520"/>
            <a:ext cx="8496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Get_Access_Time ("tash-file.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Set_Access_Time ("tash-file.ads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alendar.C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Get_Modified_Time ("tash-file.ad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Set_Modified_Time ("tash-file.ads"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alendar.C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7651-A8C5-40A1-AAD5-F38F6C9EF92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y Tcl/Tk in Particular?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(X Windows), Windows, and Macinto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get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400A-022C-432E-BF31-C68CEB52F5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and Set File Attribut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71680" y="2305080"/>
            <a:ext cx="765792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Get_Attribute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tash-file.ads", Short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Set_Attribute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tash-file.ads", Hidden, "0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210D-C88F-4206-8EDC-3E5AD52BB6F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ttribut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009800" y="2190600"/>
          <a:ext cx="7495920" cy="42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190600"/>
                    <a:ext cx="749592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A6DF-82B5-4314-A9A9-1F1172413B4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Extract File Name Por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23960" y="209556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File.Directory_Name ("/usr/lib/libm.a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"/usr/lib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File.Extension ("/usr/lib/libm.a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".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File.Root_Name ("/usr/lib/libm.a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"/usr/lib/lib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File.Tail name ("/usr/lib/libm.a"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"libm.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D329-B6C6-4AF6-90DF-83C3720F8E3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nd Directory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Query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if a file or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gula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xec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eadable by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writable by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wned by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48B7-109A-45FF-9F22-3FEA6898BD5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nd Directory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Query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nativ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path type (absolute, relative, or volume rela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ile name a link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size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a file name at its path sepa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2CB4-8AEB-4E7C-83FD-0158D96358E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Get File Typ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71200" y="1981080"/>
            <a:ext cx="42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DB55-FE63-48A9-9BE6-32432AF458A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nd Directory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Query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volume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: always ("/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: ("a:/", "c:/", "d:/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current working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2AF4-3F33-44B3-8DBB-7EC41775DE7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Name Pattern Match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560" y="179064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 Match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attern        : in String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rectory      : in String := ""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ath_Prefix    : in String := ""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ype_List      : in String := ""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ash.Lists.Tash_L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sh.File.Match ("*", Directory =&gt; "../bi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73480" y="5261040"/>
            <a:ext cx="5288400" cy="459720"/>
            <a:chOff x="1473480" y="5261040"/>
            <a:chExt cx="5288400" cy="459720"/>
          </a:xfrm>
        </p:grpSpPr>
        <p:sp>
          <p:nvSpPr>
            <p:cNvPr id="687" name=""/>
            <p:cNvSpPr/>
            <p:nvPr/>
          </p:nvSpPr>
          <p:spPr>
            <a:xfrm>
              <a:off x="2632320" y="5261040"/>
              <a:ext cx="2004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/bin/clean.t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73480" y="5261040"/>
              <a:ext cx="1155240" cy="459720"/>
              <a:chOff x="1473480" y="5261040"/>
              <a:chExt cx="1155240" cy="459720"/>
            </a:xfrm>
          </p:grpSpPr>
          <p:sp>
            <p:nvSpPr>
              <p:cNvPr id="689" name=""/>
              <p:cNvSpPr/>
              <p:nvPr/>
            </p:nvSpPr>
            <p:spPr>
              <a:xfrm>
                <a:off x="1473480" y="526104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866960" y="54957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636440" y="5261040"/>
              <a:ext cx="21254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/bin/install.t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EA2D-F5B6-497F-9FEC-026CF0BE786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ile and Directory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odification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files and dir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files and dir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a file or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5EE3-8D41-4B65-AFE2-E11C438307D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Other File and Directory Function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strings to form a file name with proper platform-dependent path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current working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00B1-0978-4C2B-9066-44E105909E3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ample Tcl Script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dentify Programming Language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ach file $argv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t extension [file extension $file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itch -glob $extension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".tcl"     {puts "$file tcl"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".ad[abs]" {puts "$file ada"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".[ch]"    {puts "$file c"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default    {puts "$file unknown"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31560" y="1926360"/>
            <a:ext cx="3855240" cy="496440"/>
          </a:xfrm>
          <a:prstGeom prst="wedgeRoundRectCallout">
            <a:avLst>
              <a:gd name="adj1" fmla="val -10263"/>
              <a:gd name="adj2" fmla="val 234129"/>
              <a:gd name="adj3" fmla="val 16667"/>
            </a:avLst>
          </a:prstGeom>
          <a:solidFill>
            <a:srgbClr val="ffffc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and lin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1080" y="2612160"/>
            <a:ext cx="3564000" cy="496440"/>
          </a:xfrm>
          <a:prstGeom prst="wedgeRoundRectCallout">
            <a:avLst>
              <a:gd name="adj1" fmla="val -15106"/>
              <a:gd name="adj2" fmla="val 157388"/>
              <a:gd name="adj3" fmla="val 16667"/>
            </a:avLst>
          </a:prstGeom>
          <a:solidFill>
            <a:srgbClr val="ffffc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] -- execute a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33280" y="5882400"/>
            <a:ext cx="4415040" cy="496440"/>
          </a:xfrm>
          <a:prstGeom prst="wedgeRoundRectCallout">
            <a:avLst>
              <a:gd name="adj1" fmla="val -40657"/>
              <a:gd name="adj2" fmla="val -232606"/>
              <a:gd name="adj3" fmla="val 16667"/>
            </a:avLst>
          </a:prstGeom>
          <a:solidFill>
            <a:srgbClr val="ffffc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glob" style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CC4A-B149-44F9-99D2-E08E5FC18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89E6-1414-4A6C-AD45-CF85C3FCD15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File I/O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list of process IDs of a command 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BB73-EA4D-45F7-8E2A-F99AEE8696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File I/O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, Get_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, Put_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locking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nd set buffering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nd set buffer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nd set translation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5653-6117-4638-A3EA-761616E304E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E6A4-520F-43EE-85D6-18CA7E2F758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ommand Pipelin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la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ipe : Tash.File_IO.File_Typ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ine : String (1..100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Last : Natura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ash.File_IO.Open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File =&gt; Pip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Name =&gt; "| ps -ef | grep -i oracle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Mode =&gt; Tash.File_IO.Read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hile not Tash.File_IO.End_Of_File (Pipe) lo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Tash.File_IO.Get_Line (Test_File, Line, Las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Ada.Text_IO.Put_Line (Line (1..Last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nd loo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Tash.File_IO.Close (Pip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54D2-7492-4A1D-90DB-E8A3B112CD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2107-7AFD-4646-88CD-FCBDC77C2FE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-Style Printf Formatt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9600" y="2247840"/>
            <a:ext cx="8534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Lists.Format 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The result for %-15s is %5.2f (%04x)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_Tash_List("{a piece of pi}") &amp; 3.14159 &amp; 89) =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result for a piece of pi   is  3.14 (0059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E773-7D77-4545-A7C2-444BCC14DA7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Scripting Capabiliti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 pattern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nd directory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ng other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tyle printf 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BC31-B644-45CE-8759-5D2830C97AA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tform Information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05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Byte_Order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littleEndian" or "bigEndia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Machine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ntel", "PPC", "68k", or "sun4m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OS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indows 95", "Windows NT", "MacOS", or "SunO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OS_Ver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sion number of the operating 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Platform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indows", "macintosh", or "uni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h.Platform.User_Name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ies current us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005E-9D26-4A69-8BDF-4C7F3C511B2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cl Capabilities Missing from TASH Thick Binding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registry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Dynamic Data Exchange (D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, UDP,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event hand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binary library or Tcl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1E05-7EAE-4636-86BB-81890AADDD2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cl Interpreter Interaction</a:t>
            </a: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Embedded Tcl)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04800" y="1523880"/>
          <a:ext cx="6355080" cy="49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523880"/>
                    <a:ext cx="635508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A86F-B53F-457A-AE75-162439E4C8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utorial Outlin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cl/Tk and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programming in Ada with T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D954-C9CB-4567-A3F2-51C30C7156D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Ada GUIs with TASH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H provides an alternative to using platform-dependent GUI AP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API for GUI development on Windows 95/98/Me/NT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Window system o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E35F-5BCF-4373-B0F3-888C74B0C1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ample GUI Application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GUI application for computing future value of a series of fixed monthly investments will be demonst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Valu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ctr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onthly invest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interest rate per mon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number of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873600" y="3600360"/>
          <a:ext cx="22730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3600360"/>
                    <a:ext cx="2273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725D-B146-42F5-8F85-1653E95C423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ample Screensho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297480" cy="30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DBD3-6CED-4AA6-934E-7A6BFBDB022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attern of a TASH Program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512720" y="1980720"/>
            <a:ext cx="56232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cl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cl and 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new Tcl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GUI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 event hand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k event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54D1-5F8E-407F-9FE1-441AD2E1175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GUI Component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2681280" y="2509920"/>
            <a:ext cx="5037120" cy="244152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1998720" y="1751040"/>
            <a:ext cx="1963440" cy="763560"/>
            <a:chOff x="1998720" y="1751040"/>
            <a:chExt cx="1963440" cy="763560"/>
          </a:xfrm>
        </p:grpSpPr>
        <p:sp>
          <p:nvSpPr>
            <p:cNvPr id="731" name=""/>
            <p:cNvSpPr/>
            <p:nvPr/>
          </p:nvSpPr>
          <p:spPr>
            <a:xfrm>
              <a:off x="1998720" y="1751040"/>
              <a:ext cx="196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Schoolbook"/>
                </a:rPr>
                <a:t>Window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71800" y="198108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7069680" y="1905120"/>
            <a:ext cx="72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5866920" y="213372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47840" y="5486400"/>
            <a:ext cx="88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505320" y="4648320"/>
            <a:ext cx="30456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280" y="2589120"/>
            <a:ext cx="829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281952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91200" y="3198960"/>
            <a:ext cx="73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371600" y="3048120"/>
            <a:ext cx="15238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87DF-7161-4A02-9A9D-EFF30BDD652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GUI Components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rame, Label and Ent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Create (Frame, ".amt", "-bd 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Pack   (Frame, "-side top -fill x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Create (Amt_Entry, ".amt.entr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-width 20 -bg whit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Pack   (Amt_Entry, "-side righ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Create (Label, ".amt.label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-text {Monthly Savings Amount:}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Pack   (Label, "-side righ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37120" cy="9540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 flipH="1" flipV="1">
            <a:off x="3505320" y="25905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267080" y="2361960"/>
            <a:ext cx="9907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2438280" y="2285640"/>
            <a:ext cx="1447920" cy="304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0907-50CD-49E6-A2F5-998748E4472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2057400" y="1619280"/>
            <a:ext cx="5027760" cy="112392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90720" y="393480"/>
            <a:ext cx="71625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GUI Components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rame, Button, and Lab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Create (Frame, ".fv", "-bd 2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Pack   (Frame, "-side top -fill x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Create (Result, ".fv.result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-width 20 -relief sunke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Pack   (Result, "-side righ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Create (Button, ".fv.button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-text {Compute Future Value:} "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-command computeFutureValu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Pack   (Button, "-side righ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581280" y="274284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505320" y="228564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895120" y="2209320"/>
            <a:ext cx="68580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8407-065D-46D9-82A9-B3A51FF4ED6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GUI Components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indow Title and Focus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 Add a window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l.Ada.Tcl_Eval (Inter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wm title . {Future Value of Savings}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 Set focus to the first entry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l.Ada.Tcl_Eval (Interp, "focus .amt.entry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5433-E930-49AA-ADEA-008E887F80B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New Tcl Command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CreateCommands is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Ada.Generic_Command (Integ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and : Tcl.Tcl_Comm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Create a new Tcl command to comp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future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and := CreateCommands.Tcl_CreateCommand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p, "computeFutureValue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ute_Future_Value_Command'acces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ACC8-31E1-4C7C-B237-55569003D89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y I Don't Lik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cripting Lanuage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trong 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cripting languages have very limited modularity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module interface ch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C28D-8F89-45F7-843D-19F54FDDC2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New Tcl Command 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cl calls Ada Subprogram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Compute_Future_Value_Command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entData : in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p     : in Tcl.Tcl_Inte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in C.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g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in CArgv.Chars_Ptr_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turn C.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agma Convention (C, Compute_Future_Value_Comma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Declare a procedure, suitable for creating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cl command, which will compute the Futur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64DC-5910-415A-A734-F3A56710C70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New Tcl Command 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t the “Monthly Savings Amount”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-- Compute_Future_Value_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get the monthly investment amount from its text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ield, evaluate it in case it is an expr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and make sure it is not less than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ount := Money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Ada.Tcl_ExprDouble (Interp, Tcl.Tk.Get (Amt_Entry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Amount &lt; 0.0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cl.TCL_O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AF15-A365-4920-B5A1-D6FC521C8BDE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New Tcl Command 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t the “Annual Interest Rate”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get the annual interest rate from its text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ield, evaluate it in case it is an expr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and make sure it is not less than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nual_Rate := Float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Ada.Tcl_ExprDouble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nterp, Tcl.Tk.Get (Rate_Entry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Annual_Rate &lt; 0.0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cl.TCL_O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7369-083D-4D00-95DA-B50887FE8E06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reate New Tcl Command 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mpute and Display Future Value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compute the monthly interes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:= Annual_Rate / 120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compute the number of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nths := Years * 1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compute futur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ture_Value := Money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(Amount) * ((1.0 + Rate)**Months - 1.0)/R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ut the future value into the result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Tk.Configure (Result, "-text "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ney'image (Future_Valu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7EF9-9407-4094-A0AE-6737A0528C46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Bind Event Handlers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Bind Return to the button com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If Button has focus, pressing Return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execute Tcl command, computeFuture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Bind (Button, "&lt;Return&gt;", "computeFutureValu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CD05-A613-4221-96E2-6DB11DAAE145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tart Tcl Interpreter and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nitialize Tcl and Tk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Create Tcl interp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p := Tcl.Tcl_CreateInter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Initialize 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cl.Tcl_Init (Interp) = Tcl.TCL_ERROR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xt_IO.Put_Line ("FutureValue: Tcl_Init failed: "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Ada.Tcl_GetResult (Interp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Initialize 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cl.Tk.Init (Interp) = Tcl.TCL_ERROR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xt_IO.Put_Line ("FutureValue: Tcl.Tk.Init failed: "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l.Ada.Tcl_GetResult (Interp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6F29-E382-4BC3-AEA5-734F71901A4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66320" y="281160"/>
            <a:ext cx="716292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tart Tk Event Loop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Loop inside Tk, waiting for events to occu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us commands to be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When there are no windows left or when we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“exit” command, Tcl.Tk.MainLoop re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l.Tk.Main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605A-4901-4DF3-8523-EE7369B27AB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ASH GUI Components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nheritance Hierarch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04800" y="1768320"/>
          <a:ext cx="614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768320"/>
                    <a:ext cx="614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207B-C7A3-4459-AD98-E4180CCDE9A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onclusion: Use TASH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ASH when you want scripting language features in 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ASH's Tk interfa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a small, simple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ASH already for its scripting languag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'll be glad you d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01DA-4631-4DC1-B9A0-64DAD95BDC4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3:07:30Z</dcterms:created>
  <dc:creator>Toshiba Preferred User</dc:creator>
  <dc:description/>
  <dc:language>en-US</dc:language>
  <cp:lastModifiedBy>Toshiba Preferred User</cp:lastModifiedBy>
  <dcterms:modified xsi:type="dcterms:W3CDTF">2000-09-30T21:07:48Z</dcterms:modified>
  <cp:revision>31</cp:revision>
  <dc:subject/>
  <dc:title>TASH (Tcl Ada Shell) An Ada binding to Tcl/Tk</dc:title>
</cp:coreProperties>
</file>