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3C4D-FE8F-42C3-B692-042A866D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5EFC-AADF-4FAE-81D6-306261FC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96AD-244F-4DDF-B868-A6A03CB6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FD7D-A42F-4ECE-894E-07A6281C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430-E1F5-4F1B-85EA-337D7E11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94E0-6FBD-4D51-9C32-5D066660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FCE7-63AE-4C2D-BC68-81549D81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08C4-3479-4B0D-B467-45D4DAF8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C6A-2A7C-4337-92AD-E8FAB380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C2DF-D025-4127-BB5D-D79DDF9F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B658-EACD-4A9D-9509-E0EFDF87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8888-A236-498B-A585-1E49FEB2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4C5A-EA4A-4661-84E7-225F7831A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TASH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An Alternative to the Windows API</a:t>
            </a: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TRI-Ada ‘97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Terry J. Westley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twestley@acm.org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http://www.ocsystems.com/xada/tash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-Ada '9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955-A6CE-4D69-8D0D-C3D10F7AE0B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-Nov-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Sample Screenshot</a:t>
            </a: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81280" y="2509920"/>
            <a:ext cx="377208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-Ada '9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FF7-25C2-4E4E-8061-DC50BBCECEC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-Nov-9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Pattern of a TASH Program</a:t>
            </a: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980720"/>
            <a:ext cx="518184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tart Tcl Interpreter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nitialize Tcl and Tk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reate new Tcl commands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reate GUI components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Bind event handlers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tart Tk event loop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-Ada '9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4A74-24B5-4112-ABAB-09A478D219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-Nov-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Create GUI Components</a:t>
            </a: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81280" y="2509920"/>
            <a:ext cx="3772080" cy="18288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1998720" y="1751040"/>
            <a:ext cx="1963440" cy="763560"/>
            <a:chOff x="1998720" y="1751040"/>
            <a:chExt cx="1963440" cy="763560"/>
          </a:xfrm>
        </p:grpSpPr>
        <p:sp>
          <p:nvSpPr>
            <p:cNvPr id="68" name=""/>
            <p:cNvSpPr/>
            <p:nvPr/>
          </p:nvSpPr>
          <p:spPr>
            <a:xfrm>
              <a:off x="1998720" y="1751040"/>
              <a:ext cx="196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Schoolbook"/>
                </a:rPr>
                <a:t>Window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71800" y="1981080"/>
              <a:ext cx="5335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028280" y="2513160"/>
            <a:ext cx="72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095880" y="2743200"/>
            <a:ext cx="9144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99320" y="5027760"/>
            <a:ext cx="88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581280" y="41911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280" y="2589120"/>
            <a:ext cx="829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2819520"/>
            <a:ext cx="1295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1200" y="3198960"/>
            <a:ext cx="732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La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371600" y="3048120"/>
            <a:ext cx="152388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-Ada '9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5803-027F-48A2-84C6-48EDE12BC9B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-Nov-97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Create GUI Component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Frame, Label and Entry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6858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.Tk.Create (Frame, ".amt", "-bd 2");</a:t>
            </a:r>
            <a:endParaRPr b="1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.Tk.Pack   (Frame, "-side top -fill x");</a:t>
            </a:r>
            <a:endParaRPr b="1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.Tk.Create (Amt_Entry, ".amt.entry",</a:t>
            </a:r>
            <a:endParaRPr b="1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-width 20 -bg white");</a:t>
            </a:r>
            <a:endParaRPr b="1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.Tk.Pack   (Amt_Entry, "-side right");</a:t>
            </a:r>
            <a:endParaRPr b="1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.Tk.Create (Label, ".amt.label",</a:t>
            </a:r>
            <a:endParaRPr b="1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-text {Monthly Savings Amount:}");</a:t>
            </a:r>
            <a:endParaRPr b="1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.Tk.Pack   (Label, "-side right");</a:t>
            </a:r>
            <a:endParaRPr b="1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29000" y="1619280"/>
            <a:ext cx="3771720" cy="714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H="1" flipV="1">
            <a:off x="3505320" y="22860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267080" y="2133720"/>
            <a:ext cx="60984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048120" y="2133720"/>
            <a:ext cx="838080" cy="312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-Ada '9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91EF-E9C2-420A-A16A-C26A72BC615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-Nov-97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81120" y="1409760"/>
            <a:ext cx="3716640" cy="830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Create GUI Component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Frame, Button, and Label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480" y="2743200"/>
            <a:ext cx="609624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.Tk.Create (Frame, ".fv", "-bd 2");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.Tk.Pack   (Frame, "-side top -fill x");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.Tk.Create (Result, ".fv.result",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-width 20 -relief sunken");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.Tk.Pack   (Result, "-side right");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.Tk.Create (Button, ".fv.button",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-text {Compute Future Value:} " &amp;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-command computeFutureValue");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.Tk.Pack   (Button, "-side right");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3504960" y="2209680"/>
            <a:ext cx="6858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267080" y="2057400"/>
            <a:ext cx="60984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047760" y="2057040"/>
            <a:ext cx="1066680" cy="304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-Ada '9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8C4-1676-4322-AF41-43D224C9CC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-Nov-97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Create GUI Component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indow Title and Focus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16256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Add a window title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.Ada.Tcl_Eval (Interp,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wm title . {Future Value of Savings}");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Set focus to the first entry field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.Ada.Tcl_Eval (Interp, "focus .amt.entry");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-Ada '9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E9F-5E41-4F93-8D45-FEE1425F59A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-Nov-97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Create New Tcl Command</a:t>
            </a: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1625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clare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CreateCommands is new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.Ada.Generic_Command (Integer);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mand : Tcl.Tcl_Command;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Create a new Tcl command to compute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future value.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mand := CreateCommands.Tcl_CreateCommand (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p, "computeFutureValue",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ute_Future_Value_Command'access,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, NULL);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-Ada '9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2ACE-5B8C-4C2A-BF50-A2F64A80B50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-Nov-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Create New Tcl Command 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cl calls Ada Subprogram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unction Compute_Future_Value_Command (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ientData : in Integer;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p     : in Tcl.Tcl_Interp;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: in C.Int;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: in CArgv.Chars_Ptr_Ptr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return C.Int;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agma Convention (C, Compute_Future_Value_Command);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Declare a procedure, suitable for creating a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Tcl command, which will compute the Future Value.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-Ada '9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650B-76A1-4387-9401-C1B04A35C35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-Nov-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Create New Tcl Command 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Get the “Monthly Savings Amount”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 -- Compute_Future_Value_Command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 get the monthly investment amount from its text entry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 field, evaluate it in case it is an expression,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 and make sure it is not less than zero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mount := Money (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cl.Ada.Tcl_ExprDouble (Interp, Tcl.Tk.Get (Amt_Entry)));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Amount &lt; 0.0 then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cl.TCL_OK;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-Ada '9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DDAB-EB33-4FC7-BCC5-AAB3754AE4F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-Nov-97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Create New Tcl Command 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Get the “Annual Interest Rate”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 get the annual interest rate from its text entry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 field, evaluate it in case it is an expression,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 and make sure it is not less than zero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nual_Rate := Float (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cl.Ada.Tcl_ExprDouble (Interp, Tcl.Tk.Get (Rate_Entry)));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Annual_Rate &lt; 0.0 then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cl.TCL_OK;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-Ada '9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96B3-12C7-4DFA-8592-909E8A28FD0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-Nov-97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Premise</a:t>
            </a: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rough a binding to Tcl/Tk, TASH provides the Ada programmer with an alternative to using the Windows 95 API: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 free, platform-independent, graphical user interface development toolkit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upports native “look and feel” for the X Window System (Unix), Windows 95, and Macintosh.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-Ada '9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26B6-9044-44E3-B65B-5ADE77C5204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-Nov-97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Create New Tcl Command 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omputing and Displaying Computed Future Value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 compute the monthly interest rate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te := Annual_Rate / 1200.0;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 compute the number of months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ths := Years * 12;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 compute future value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_Value :=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ey (Float (Amount) * ((1.0 + Rate)**Months - 1.0)/Rate);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 put the future value into the result label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cl.Tk.Configure (Result, "-text " &amp; Money'image (Future_Value));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-Ada '9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DD20-6FE2-472B-925E-FB6BC1B5740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-Nov-97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Bind Event Handlers</a:t>
            </a: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 Bind Return to the button command.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 If Button has focus, pressing Return will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 execute Tcl command, computeFutureValue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cl.Tk.Bind (Button, "&lt;Return&gt;", "computeFutureValue");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-Ada '9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74AD-7609-4181-B34A-81346996FDA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-Nov-97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Start Tcl Interpreter a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Initialize Tcl and Tk</a:t>
            </a: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 Create Tcl interpreter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p := Tcl.Tcl_CreateInterp;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 Initialize Tcl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Tcl.Tcl_Init (Interp) = Tcl.TCL_ERROR then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xt_IO.Put_Line ("FutureValue: Tcl_Init failed: " &amp;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cl.Ada.Tcl_GetResult (Interp));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 Initialize Tk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Tcl.Tk.Init (Interp) = Tcl.TCL_ERROR then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xt_IO.Put_Line ("FutureValue: Tcl.Tk.Init failed: " &amp;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cl.Ada.Tcl_GetResult (Interp));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-Ada '9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8794-53AE-46B4-B637-EA068122C76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-Nov-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Start Tk Event Loop</a:t>
            </a: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 Loop inside Tk, waiting for events to occur and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 thus commands to be executed.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 When there are no windows left or when we execute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 “exit” command, Tcl.Tk.MainLoop returns.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cl.Tk.MainLoop;</a:t>
            </a:r>
            <a:endParaRPr b="1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-Ada '9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9759-998A-454A-88A3-11CE65DA254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-Nov-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TASH GUI Component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nheritance Hierarchy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04800" y="1768320"/>
          <a:ext cx="6147000" cy="48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1768320"/>
                    <a:ext cx="61470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-Ada '9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8340-49C1-4C36-8DF9-148D7EF758A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-Nov-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Tcl Interpreter Interaction</a:t>
            </a: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04800" y="1380960"/>
          <a:ext cx="6355080" cy="490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1380960"/>
                    <a:ext cx="6355080" cy="49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-Ada '9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FA0-D930-4A37-8651-A406EAC6AF0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-Nov-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ASH provides an alternative to using the Windows API for GUI development on Windows 95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dditional benefit: Tcl, a powerful, extensible scripting language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registry searching and editing tool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full set of file handling utilities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network programming, including http protocols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dditional benefit: platform independence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-Ada '9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5234-5774-45E1-8E89-082BF938A61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-Nov-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at is TASH?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at is Tcl/Tk?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y would I want to use TASH?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Example of a using TASH to develop a GUI application in Windows 95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-Ada '9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FC76-13F7-45D1-B20D-6067FD4112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-Nov-97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What is TASH?</a:t>
            </a: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ASH stands f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d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H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ell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n Ada 95 binding to Tcl/Tk 8.0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 layered approach: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Complete thin binding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Experimental thick binding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-Ada '9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0D60-4B16-4F78-8AAD-FA8104D8C1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-Nov-97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What is Tcl/Tk?</a:t>
            </a: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cl is a simple, powerful, and extensible scripting language similar to Unix shell scripting languages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k is a GUI toolkit extension of Tcl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k was originally targeted to X Window System, but now also supports Windows 95 and Macintosh native “look and feel”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re is also a Tcl/Tk plugin for Web browsers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-Ada '9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1A4B-24D0-479C-8175-F779B41388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-Nov-97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Why use Tcl/Tk?</a:t>
            </a: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Rapid development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Tcl is an interpreted language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Tk is a specialized extension for writing GUIs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Platform independence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ystem integration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Scripting languages, especially Tcl, are excellent for gluing together several programs and applications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End-user programming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Tcl is an interpreted language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Tcl has a very simple syntax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-Ada '9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899B-2D08-496A-8CAA-2F6B9FF2FE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-Nov-9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What does TASH do?</a:t>
            </a: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ost importantly, it is a binding from Ada 95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llows a Tcl program to use Ada in place of C to implement Tcl commands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akes the Tcl library functions available to an Ada program: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string and list handling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regular expression matching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hash tables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and, GUI development</a:t>
            </a:r>
            <a:endParaRPr b="1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-Ada '9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411-4C31-4E57-AEA2-BE75E85DB0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-Nov-97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Why use TASH?</a:t>
            </a: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ogether with GNAT, it provides a </a:t>
            </a:r>
            <a:r>
              <a:rPr b="1" lang="en-US" sz="2400" spc="-1" strike="noStrike">
                <a:solidFill>
                  <a:srgbClr val="fc0128"/>
                </a:solidFill>
                <a:latin typeface="Century Schoolbook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Century Schoolbook"/>
              </a:rPr>
              <a:t>GUI development environment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for Windows 95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Your code and interface design are </a:t>
            </a:r>
            <a:r>
              <a:rPr b="1" lang="en-US" sz="2400" spc="-1" strike="noStrike">
                <a:solidFill>
                  <a:srgbClr val="fc0128"/>
                </a:solidFill>
                <a:latin typeface="Century Schoolbook"/>
              </a:rPr>
              <a:t>completely portable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to Unix and Macintosh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-Ada '9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E34-CA2C-4617-9D3A-A650F7ED7B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-Nov-97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Sample GUI Application</a:t>
            </a:r>
            <a:endParaRPr b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ctr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 simple GUI application for computing future value of a series of fixed monthly investments will be demonstrated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ctr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ctr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Future Value = 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ctr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entury Schoolbook"/>
              <a:buChar char="•"/>
              <a:tabLst>
                <a:tab algn="ctr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ere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= monthly investment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ctr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= interest rate per month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ctr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= number of months</a:t>
            </a:r>
            <a:endParaRPr b="1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873600" y="3222720"/>
          <a:ext cx="2273040" cy="97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0" y="3222720"/>
                    <a:ext cx="227304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-Ada '9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01E-FE97-404C-8733-1DB2B7E22A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-Nov-97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5T12:28:42Z</dcterms:created>
  <dc:creator>Terry J. Westley</dc:creator>
  <dc:description/>
  <dc:language>en-US</dc:language>
  <cp:lastModifiedBy>Terry Westley</cp:lastModifiedBy>
  <cp:lastPrinted>1997-08-26T14:09:22Z</cp:lastPrinted>
  <dcterms:modified xsi:type="dcterms:W3CDTF">2000-09-20T01:19:09Z</dcterms:modified>
  <cp:revision>9</cp:revision>
  <dc:subject/>
  <dc:title>TASH An Alternative to the Windows API</dc:title>
</cp:coreProperties>
</file>